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1B3A-43F0-41FC-87FA-7714AD71C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672B-D90C-40C3-AB59-E2F568E72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661D-C7F3-44F0-98C3-3213445D3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97CD-48E3-40DB-A627-AF584B1C7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6F880-82E3-4AFA-B9AA-76C7B37CE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11D64-8E76-4A09-995B-6A8803DEC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3D00C-7EBB-437B-B35C-D5E4EBAEE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C50C0-C354-44E9-8F15-BE2E0CD2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93759-2CA5-4414-B5E4-02AB1A840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63D0B-C298-4699-97F5-69027A21A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C75E1-A83E-4935-8D05-422A78B2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B87C-3D8E-4864-BF0D-DBDF8835C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19A0B-457A-4BE2-A5E4-5803BE00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4C5C4-F967-4E6D-B620-9522BD72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5AB97-1B90-41FE-92EC-4B5B1B72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98BBD-20B1-4BDE-9878-2488CED27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26F25-2146-445C-BF2D-D759C82F1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2A53-0CB5-4BE1-99BC-8EC9C9866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010D-66EE-46E6-AFA2-BF36252A2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AECB-948E-40A3-9D9A-224CFDFBD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DB4D-47AA-498B-864C-3B3BAE4A9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6FFB-CE95-40BF-8307-1ACD3A42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F345-CF28-4C16-82B7-DCB570AF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F9EB-948B-4F51-AC7C-428BC80C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0B808-B353-421F-B300-55DA1024F39F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AD0F-9D52-426A-8937-63520FB0F7FC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BIOMAGNETISMO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ª Gemma Hernández Díaz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omo afecta a nuestro organism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n las ciudades hay un exceso de iones positivos, esto produce dolor de cabeza, depresión, irritabilidad, insomnio y otros malestar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a ionización negativa del aire, por el contrario, nos brinda reposo, relajación y mayor energía, ya que los iones negativos disminuyen la serotonina y normalizan la T.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dicaciones del par biomagnetic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nfermedades autoinmun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ánce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ardiovasculares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istema nervios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rmatológicas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isfunciones glandular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Gastrointestinal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Ginecológica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Hematológicas…….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ontraindicacion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arcapaso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ratamiento activo con quimioterapia o hacer menos de un año de haberla recibid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mbarazo ( relativo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plicación del par biomagnetic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siste en colocar imanes de cargas positivas y negativas sobre el cuerpo, con el fin de nivelar el p.h y así conseguir regularlo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l p.h es el potencial de hidrogeno o grado de acidez o alcalinidad que contiene el agua de nuestro cuerpo, para que asi el organismo recupere su homeostasi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Relación entre la salud y las emocione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a salud es un complejo proceso, sustentado sobre el equilibrio de factores bio-psico-social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a enfermedad afecta tanto al cuerpo, como a la ment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a psiconeuroinmunologia, estudia los vínculos entre el sistema inmunológico y el S.N.C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Las emocion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jercen un efecto poderoso en el sistema nervioso autónomo, que es el que regula diversas funciones del organismo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l sistema nervioso, se conecta directamente con el sistema inmunitario, ya que cuando tenemos estrés, se liberan catecolaminas que obstaculizan la función de las células inmunológica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l estrés anula la resistencia inmunológic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Las emociones negativa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bilitan el sistema inmunitari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a ira, en concreto, genera problemas de corazón. Según estudios realizados en la universidad de Standford, hace aumentar el ritmo cardiaco, su presión sanguínea y tendrá una mayor probabilidad de sufrir una enfermedad coronari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eflexion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a nasa comprobó como los astronautas, al abandonar el campo magnético de la tierra, padecían la denominada enfermedad espacial, apareciendo osteoporosis y deficiencias en el sistema inmun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eflexion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umerosos investigadores, se preguntan si el gran numero de nuevas patologías, muchas de ellas articulares, no se deberá a la suma de la disminución del campo magnético de la tierra y la enorme contaminación electromagnética que sufrimos, además del estilo de vida actual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eflexion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n 1958, el Dr. Nakawaka acuño la expresión “Síndrome de deficiencia del campo magnético" para  definir la dolencia de aquellos pacientes que presentan rigidez de hombros, en base del cuello y espalda baja, migrañas, vértigos, insomnio,estreñimiento crónico, desequilibrio del sistema nervioso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El cuerpo Human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Es un campo de energi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Las celulas se comunican por medio de mensajes, transportados por hormonas y sustancias bioquimicas, asi como por señales electrica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Todos nuestros atomos y moleculas, son reemplazadas cada 7 año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Somos seres energetico-espiritual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eflexion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ay otra forma de sanar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eniendo en cuenta tus emociones, sin agresiones, ni efectos secundario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onde solo tu importa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onde solo tu decid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eflexion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hora que esta Terapia, esta dando sus primeros pasos en España, esperamos que tengamos todos la mente abierta y simplemente……………….Nos dejemos sorprender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racias por escucharm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3408480" y="1889280"/>
            <a:ext cx="3533760" cy="3044520"/>
            <a:chOff x="3408480" y="1889280"/>
            <a:chExt cx="3533760" cy="3044520"/>
          </a:xfrm>
        </p:grpSpPr>
        <p:sp>
          <p:nvSpPr>
            <p:cNvPr id="134" name="_s26629"/>
            <p:cNvSpPr/>
            <p:nvPr/>
          </p:nvSpPr>
          <p:spPr>
            <a:xfrm>
              <a:off x="3408480" y="2743200"/>
              <a:ext cx="2190600" cy="2190600"/>
            </a:xfrm>
            <a:prstGeom prst="donut">
              <a:avLst>
                <a:gd name="adj" fmla="val 1666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26630"/>
            <p:cNvSpPr/>
            <p:nvPr/>
          </p:nvSpPr>
          <p:spPr>
            <a:xfrm>
              <a:off x="6357960" y="2863800"/>
              <a:ext cx="584280" cy="48744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26631"/>
            <p:cNvSpPr/>
            <p:nvPr/>
          </p:nvSpPr>
          <p:spPr>
            <a:xfrm>
              <a:off x="3773520" y="3108240"/>
              <a:ext cx="1460520" cy="1460520"/>
            </a:xfrm>
            <a:prstGeom prst="donut">
              <a:avLst>
                <a:gd name="adj" fmla="val 25000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26632"/>
            <p:cNvSpPr/>
            <p:nvPr/>
          </p:nvSpPr>
          <p:spPr>
            <a:xfrm>
              <a:off x="6357960" y="2376360"/>
              <a:ext cx="584280" cy="48744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26633"/>
            <p:cNvSpPr/>
            <p:nvPr/>
          </p:nvSpPr>
          <p:spPr>
            <a:xfrm>
              <a:off x="4138560" y="3473280"/>
              <a:ext cx="730440" cy="73044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26634"/>
            <p:cNvSpPr/>
            <p:nvPr/>
          </p:nvSpPr>
          <p:spPr>
            <a:xfrm>
              <a:off x="6357960" y="1889280"/>
              <a:ext cx="584280" cy="48708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Clases de Bioenergi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Enegia Metabolica. Nutrientes esenciales, para los procesos celular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Energia bioelectrica; nervios , musculos…… es el flujo de ion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Energia biofotonic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Energias sutil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ausas de las Enfermedad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Indole quimico: No cubrir necesidades basicas nutricionales de alta calidad, falta de vitaminas, oligoelementos, como el selenio, magnesio, calcio, falta de agua  de buena calidad y por supuesto, la contaminacion quimica(bencenos…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Indole Energetico:exposicion a contaminacion electromagnetic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PARASITARI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Definición de Biomagnetism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s una Terapia muy efectiva, que equilibra el organismo, mediante la aplicación de campos magnético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plicando imanes en puntos específicos, se consigue eliminar virus, bacterias, hongos ….que son causa de la mayoría de las enfermedades del hombr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Efectos de los Iman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os imanes en polaridad negativa, ceden electrones donde hay oxidació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quilibran las cargas positivas y negativa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cuperan su P.H adecuado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cuperan su capacidad de autorregularse y su capacidad de autosanació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Que son los Iones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n átomo, tiene un núcleo positivo y una nube de electrones negativos, que giran alrededor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 el átomo, tiene un electrón en exceso, se llama Ion negativo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 falla algún electrón, se llama Ion positivo, porque predominan los proton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La calidad del oxigeno que respiramo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l oxigeno cargado negativo, es mas respirable, porque al entrar en los alvéolos pulmonares, pasa fácilmente a la sangre, esto es debido a que la sangre contiene hierro, que tiene carga positiva y por lo tanto pide oxigeno con carga negativa, ya que las cargas de signos opuestos, se atrae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omo se crean los Radicales libre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as moléculas de oxigeno pueden perder un electrón a traves del metabolismo del cuerpo o a la exposición a los contaminantes, radiaciones o ciertos medicamentos, convirtiéndose en partículas conocidas , como radicales libr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02:03:37Z</dcterms:created>
  <dc:creator>Usuario</dc:creator>
  <dc:description/>
  <dc:language>en-US</dc:language>
  <cp:lastModifiedBy>Usuario</cp:lastModifiedBy>
  <dcterms:modified xsi:type="dcterms:W3CDTF">2011-05-06T11:52:45Z</dcterms:modified>
  <cp:revision>6</cp:revision>
  <dc:subject/>
  <dc:title>BIOMAGNETISMO</dc:title>
</cp:coreProperties>
</file>