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5C3-DE14-47D7-A569-F8E2B7EF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489-3361-45E6-9245-A1684A3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DB5-46D5-4804-90C8-DE83DD40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E07-D40D-42D4-BA4E-3FCC5EE9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254-7AAA-420B-A5E6-94062B01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9FB-D459-4C29-A913-92A1459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394-DEE7-4DFA-A58F-3FA1576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933-CF9B-4F8B-A7B4-3713752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9F4-072C-4791-AB28-8781750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DFE-4FA9-4AC9-AE10-ABB18E1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C26-327A-44EB-9D93-2CDFDD7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CB0-A673-4ACF-B774-185EA0D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8D15-BF25-497F-9F02-03421BB67E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2520" cy="50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4800" spc="-1" strike="noStrike">
                <a:solidFill>
                  <a:srgbClr val="333399"/>
                </a:solidFill>
                <a:latin typeface="Tahoma"/>
              </a:rPr>
              <a:t>DESPERTANDO NUESTROS SENTIDOS AL CUIDAR”</a:t>
            </a:r>
            <a:br>
              <a:rPr sz="4800"/>
            </a:br>
            <a:br>
              <a:rPr sz="4800"/>
            </a:br>
            <a:br>
              <a:rPr sz="40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utoras: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armen Donoso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  Ana Mª So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516280"/>
            <a:ext cx="8640720" cy="1081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VII Congreso de Enfermería en Cuidados Complementarios y Terapia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ile8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Activida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harlas informativas: C. Salud 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“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iudades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”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de Getafe, centros c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í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vicos, Fundaci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ó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n Hospital de Alcorc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ó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n (FH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olaboraci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ó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n en asociaciones de fibromialgia (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“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Otra Mirada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”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y AFFA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Participaci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ó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n en Congr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P716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RESULTAD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En el paciente: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Hacerle participe de esta herramienta de trabajo, consiguie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Paliar los s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í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ntomas en el dolor cr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ó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poyo e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“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Fomentar el autocuidado</a:t>
            </a:r>
            <a:r>
              <a:rPr b="0" lang="es-ES" sz="3200" spc="-1" strike="noStrike">
                <a:solidFill>
                  <a:srgbClr val="333399"/>
                </a:solidFill>
                <a:latin typeface="Copperplate Gothic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140360" y="5013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40464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Los Profesionales: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Participación en el Congreso de la FAECAP (Federación de asociaciones de Enfermería Comunitaria y Atención Primar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Se amplia la cartera de servicios en el centr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con ésta terap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Desarrollo de esta terapia en nuestra consulta privada y en las asociaciones de fibromial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Pendiente de desarrollar en este curso lectivo, sesiones al personal sanitario del área de reanimación de la F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78920" y="691920"/>
            <a:ext cx="8595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ahoma"/>
              </a:rPr>
              <a:t>La socie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harlas informativas promovidas por el Ayuntamiento de Getafe y la Asoc. de fibromialg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Participación en la Asoc. de fibromialgia como terapeutas y asesoras de salud.</a:t>
            </a:r>
            <a:r>
              <a:rPr b="0" lang="es-ES" sz="36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43920"/>
            <a:ext cx="86756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Esto nos ha supuesto un enriquecimiento personal como profesionales, disponer de nuevos recursos, y  </a:t>
            </a: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descubrir el despertar de nuestros sentidos al cuid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urante los 3 años de experiencia hemos ido introduciendo otras terapias que complementan y potencian el tratamiento con la TCS ( Reiki, terapia floral, homeopatía, manipulación visceral, liberación somato-emocional, terapia acuática, entre ot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lhama 3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>
            <a:off x="466560" y="3573360"/>
            <a:ext cx="936720" cy="720720"/>
          </a:xfrm>
          <a:prstGeom prst="ellipse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Mét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La terapia acuática que presentamos integra varias técnicas acuátic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Masaje integral en e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Wats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 introducen otras terapias como:  reiki, </a:t>
            </a: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terapia cráneo-sacral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, reflexoterapia, etc. dependiendo de las necesidades de la pers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lhama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Alham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060640"/>
            <a:ext cx="8028000" cy="3741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ar a conocer al personal sanitario y a la sociedad la terapia cráneo-sacral (TCS) como herramienta de trabaj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ompartir nuestra experi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Mejorías inmedia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umento del grado de mov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umenta la relajación mus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sminuyen los espasmos musculares y calam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sminuye la espast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Mejorías a largo 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Mejoría en los patrones de su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Mejoría en la digest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Mejoría en la respuesta del sistema inmu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sminución de la ans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Bienestar gene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¿Está la enfermería y el resto de personal sanitario preparados para las demandas de nuestros pacientes y/o sociedad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¿ El sistema de salud está abierto a formar al personal y permitir desarrollar las terapias complementar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SCUSI</a:t>
            </a:r>
            <a:r>
              <a:rPr b="1" lang="es-ES" sz="4400" spc="-1" strike="noStrike">
                <a:solidFill>
                  <a:srgbClr val="333399"/>
                </a:solidFill>
                <a:latin typeface="Copperplate Gothic Bold"/>
              </a:rPr>
              <a:t>Ó</a:t>
            </a: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Los diferentes profesionales sanitarios y para-sanitarios debemos sentirnos parte de un todo para mejorar la salud de la persona, con todos los recursos a nuestro alcance, sin limitarnos por nuestras competencias para conseguir </a:t>
            </a:r>
            <a:r>
              <a:rPr b="0" i="1" lang="es-ES" sz="3200" spc="-1" strike="noStrike">
                <a:solidFill>
                  <a:srgbClr val="333399"/>
                </a:solidFill>
                <a:latin typeface="Tahoma"/>
              </a:rPr>
              <a:t>un único 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bienestar integral, equilibrio y salu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En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412640"/>
            <a:ext cx="8229600" cy="45687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www.portalesmedico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www.upledgerinstitute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www. wats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www. aquaticwritings.tripo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www. jaka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www. Minakshiats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efinición de terapia Cráneo-sacral (TCS):Indicaciones, contraindicaciones, efectos espe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vulgación al personal y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onclu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scu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SISTEMA CRANEO-SACR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7440" y="1196640"/>
            <a:ext cx="4859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La fun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Producción, circulación y reabsorción del líquido cefalorraquídeo.(sistema Hidrául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El LCR está suspendido y en movimiento dentro S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La escucha y palpación sutil del LCR nos permite monitorizar el ritmo, así lo evaluamos y restablec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ist"/>
          <p:cNvPicPr/>
          <p:nvPr/>
        </p:nvPicPr>
        <p:blipFill>
          <a:blip r:embed="rId1"/>
          <a:stretch/>
        </p:blipFill>
        <p:spPr>
          <a:xfrm>
            <a:off x="5716440" y="1677960"/>
            <a:ext cx="2671920" cy="44150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COMO DESARROLLAMOS LA T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24000" y="1165320"/>
            <a:ext cx="86407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Método suave (presión &lt; 10 gr), que nos ayuda a localizar las restricciones, y  permite al cuerpo activar los mecanismos de autoc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Trabajamos la movilidad de los huesos del cráneo, columna vertebral y pel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lanceo"/>
          <p:cNvPicPr/>
          <p:nvPr/>
        </p:nvPicPr>
        <p:blipFill>
          <a:blip r:embed="rId1"/>
          <a:stretch/>
        </p:blipFill>
        <p:spPr>
          <a:xfrm>
            <a:off x="5292720" y="2838600"/>
            <a:ext cx="3124080" cy="1885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4" name="Picture 5" descr="parietales"/>
          <p:cNvPicPr/>
          <p:nvPr/>
        </p:nvPicPr>
        <p:blipFill>
          <a:blip r:embed="rId2"/>
          <a:stretch/>
        </p:blipFill>
        <p:spPr>
          <a:xfrm>
            <a:off x="971640" y="2779560"/>
            <a:ext cx="3168720" cy="208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7160002"/>
          <p:cNvPicPr/>
          <p:nvPr/>
        </p:nvPicPr>
        <p:blipFill>
          <a:blip r:embed="rId1"/>
          <a:stretch/>
        </p:blipFill>
        <p:spPr>
          <a:xfrm>
            <a:off x="-11125080" y="476280"/>
            <a:ext cx="6578640" cy="1064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P7160002"/>
          <p:cNvPicPr/>
          <p:nvPr/>
        </p:nvPicPr>
        <p:blipFill>
          <a:blip r:embed="rId2"/>
          <a:stretch/>
        </p:blipFill>
        <p:spPr>
          <a:xfrm>
            <a:off x="0" y="0"/>
            <a:ext cx="9144000" cy="72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INDICACIONES DE LA T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2828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Mejorar el funcionamiento del Sistema Nervioso  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Eliminar los efectos negativos del est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Reforzar la resistencia a las enfermedades y mejorar la sal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Contraind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Hemorragia cereb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neurisma intracran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Traumatismo cráneo encefá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irugia cran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Hernia de bulb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Cualquier alteración fisiológica que    modifique la presión intracran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Tahoma"/>
              </a:rPr>
              <a:t>Aplicaciones de la T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268280"/>
            <a:ext cx="8678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Esta técnica la podemos desarrollar en todo el ciclo de l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En disfunciones intelectuales, motoras o sensor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3.bp.blogspot.com/_B0NHyFJ8IrI/S27YgVddJGI/AAAAAAAABGc/yePcmuJ2d2A/s400/vulnerable-babies.jpg"/>
          <p:cNvPicPr/>
          <p:nvPr/>
        </p:nvPicPr>
        <p:blipFill>
          <a:blip r:embed="rId1"/>
          <a:stretch/>
        </p:blipFill>
        <p:spPr>
          <a:xfrm>
            <a:off x="2484360" y="2492280"/>
            <a:ext cx="3810240" cy="2743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35:27Z</dcterms:created>
  <dc:creator>Ana Solé</dc:creator>
  <dc:description/>
  <dc:language>en-US</dc:language>
  <cp:lastModifiedBy>-</cp:lastModifiedBy>
  <dcterms:modified xsi:type="dcterms:W3CDTF">2011-04-20T13:58:13Z</dcterms:modified>
  <cp:revision>21</cp:revision>
  <dc:subject/>
  <dc:title>Diapositiva 1</dc:title>
</cp:coreProperties>
</file>